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5621-38B8-4DBF-A9D2-8CC78669F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neogenesis == making new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effect, photosynthesis is respiration run backwards powered by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ains little energy because it is fully oxid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a series of steps to synthesize a stable energy storag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P = ribulose bis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isco = ribulose bisphosphate carbox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BBBA-6999-42D8-A763-C64696916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1F1F-35A6-4856-93C1-C4C5FA83B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9B19-110A-46A9-9872-5DF930A0F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CD23-E029-4F5A-9B57-2D3CD498F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FE57-8330-4501-B7D3-098C3AF24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1B40-0453-420D-94C5-91A7C158C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AE7F-65E9-4CB6-9B3B-20E3AE66F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51E4-8FA7-4967-81C3-D338E0EE2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69F6-2EBF-4B94-AB7A-4B00562AE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33B8-05A4-4C9B-9BC2-479323349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5316-F15E-45CF-97FF-8A5697F2F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DB70-4D5A-461A-9240-EDBA189E9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B35E-EDBD-4F4E-8517-871911518904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0" y="3733920"/>
            <a:ext cx="152388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      The Calvin Cycle</a:t>
            </a:r>
            <a:br>
              <a:rPr sz="3600"/>
            </a:b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Lif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i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819440" cy="114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1435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638680" y="3581280"/>
            <a:ext cx="1371600" cy="68580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86960" y="608760"/>
            <a:ext cx="1852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110200" y="1539720"/>
            <a:ext cx="380880" cy="838080"/>
            <a:chOff x="5110200" y="1539720"/>
            <a:chExt cx="380880" cy="838080"/>
          </a:xfrm>
        </p:grpSpPr>
        <p:sp>
          <p:nvSpPr>
            <p:cNvPr id="345" name=""/>
            <p:cNvSpPr/>
            <p:nvPr/>
          </p:nvSpPr>
          <p:spPr>
            <a:xfrm>
              <a:off x="5110200" y="15397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0200" y="19969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109760" y="2361600"/>
            <a:ext cx="241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6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9480" y="329256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00920" y="329256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960" y="3656880"/>
            <a:ext cx="1262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21480" y="3656880"/>
            <a:ext cx="124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100920" y="4511520"/>
            <a:ext cx="380880" cy="1295280"/>
            <a:chOff x="6100920" y="4511520"/>
            <a:chExt cx="380880" cy="1295280"/>
          </a:xfrm>
        </p:grpSpPr>
        <p:sp>
          <p:nvSpPr>
            <p:cNvPr id="353" name=""/>
            <p:cNvSpPr/>
            <p:nvPr/>
          </p:nvSpPr>
          <p:spPr>
            <a:xfrm>
              <a:off x="6100920" y="45115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00920" y="49687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0920" y="54259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60840" y="5774760"/>
            <a:ext cx="176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72320" y="1692360"/>
            <a:ext cx="838080" cy="457200"/>
          </a:xfrm>
          <a:custGeom>
            <a:avLst/>
            <a:gdLst>
              <a:gd name="textAreaLeft" fmla="*/ 112320 w 838080"/>
              <a:gd name="textAreaRight" fmla="*/ 725760 w 8380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13640" y="143172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96720" y="1844280"/>
            <a:ext cx="115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 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7920" y="3749760"/>
            <a:ext cx="761760" cy="30456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862680" y="4282560"/>
            <a:ext cx="2224440" cy="902880"/>
            <a:chOff x="6862680" y="4282560"/>
            <a:chExt cx="2224440" cy="902880"/>
          </a:xfrm>
        </p:grpSpPr>
        <p:sp>
          <p:nvSpPr>
            <p:cNvPr id="362" name=""/>
            <p:cNvSpPr/>
            <p:nvPr/>
          </p:nvSpPr>
          <p:spPr>
            <a:xfrm>
              <a:off x="6862680" y="4543200"/>
              <a:ext cx="838080" cy="45720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d16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81680" y="4282560"/>
              <a:ext cx="1285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 NAD</a:t>
              </a:r>
              <a:r>
                <a:rPr b="1" lang="en-US" sz="26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73400" y="4695480"/>
              <a:ext cx="1413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 NADH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862680" y="5121000"/>
            <a:ext cx="1967760" cy="902160"/>
            <a:chOff x="6862680" y="5121000"/>
            <a:chExt cx="1967760" cy="902160"/>
          </a:xfrm>
        </p:grpSpPr>
        <p:sp>
          <p:nvSpPr>
            <p:cNvPr id="366" name=""/>
            <p:cNvSpPr/>
            <p:nvPr/>
          </p:nvSpPr>
          <p:spPr>
            <a:xfrm>
              <a:off x="6862680" y="5381640"/>
              <a:ext cx="838080" cy="45684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79920 h 456840"/>
                <a:gd name="textAreaBottom" fmla="*/ 3312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d16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74480" y="512100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AD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73760" y="553320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2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66640" y="685800"/>
            <a:ext cx="3894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Remember G3P?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8680" y="1751760"/>
            <a:ext cx="2265480" cy="6116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19520" y="1371600"/>
            <a:ext cx="761760" cy="5105520"/>
          </a:xfrm>
          <a:prstGeom prst="upArrow">
            <a:avLst>
              <a:gd name="adj1" fmla="val 50000"/>
              <a:gd name="adj2" fmla="val 167557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rcRect l="10128" t="0" r="11250" b="0"/>
          <a:stretch/>
        </p:blipFill>
        <p:spPr>
          <a:xfrm>
            <a:off x="1217520" y="550800"/>
            <a:ext cx="6613560" cy="6307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328920" y="5608800"/>
            <a:ext cx="3100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lyceraldehyde 3-phosphate (3C) (G3P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84280" y="6262560"/>
            <a:ext cx="9975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lucose and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ther sugars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76200" y="2255760"/>
            <a:ext cx="2140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ibulose 1,5-bisphosphate 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RuBP) </a:t>
            </a: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(5C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90120" y="2263680"/>
            <a:ext cx="244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-phosphoglycerate (3C) (PGA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69240" y="44132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lyceraldehyde 3-phosphate (3C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07760" y="4454640"/>
            <a:ext cx="229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lyceraldehyde 3-phosphate 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96520" y="463860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3C) (G3P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0520" y="1969920"/>
            <a:ext cx="649800" cy="1983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Rubisco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5200" y="3252960"/>
            <a:ext cx="823680" cy="3963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forming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BP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15920" y="3851280"/>
            <a:ext cx="842040" cy="3963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verse of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52960" y="2712960"/>
            <a:ext cx="1207800" cy="1983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bon fixation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82520" y="785880"/>
            <a:ext cx="170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roma of chloroplast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65840" y="1036800"/>
            <a:ext cx="1244160" cy="4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28760" y="3595680"/>
            <a:ext cx="723240" cy="19836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 NADPH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13480" y="347508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 ATP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57680" y="305424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 ADP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96640" y="25797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 ATP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47120" y="306720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 ADP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38120" y="4057560"/>
            <a:ext cx="660600" cy="19836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 NADP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68960" y="3703680"/>
            <a:ext cx="2293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73680" y="3370320"/>
            <a:ext cx="230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3-bisphosphoglycerate (3C)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02520" y="4237200"/>
            <a:ext cx="2293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P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o G-3-P and Beyond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Glyceraldehyde-3-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d product of Calvin cycl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ric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3 carbo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sugar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3 photosynthesi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G-3-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= important intermedi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G-3-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arbohydrat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mino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147960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nucleic ac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352680" y="4273560"/>
            <a:ext cx="2590920" cy="2584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ubisco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nzyme whic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fixes carbo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from ai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ribulose bisphosphate carboxyl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e most important enzyme in the world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t makes life out of ai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finitely the most abundant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ccounting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accounting is complicate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turns of Calvin cycle = 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3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3P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3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4" marL="1735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 turn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Calvin cycle = 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6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6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(6C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8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ATP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NADPH </a:t>
            </a:r>
            <a:r>
              <a:rPr b="1" lang="en-US" sz="3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y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ATP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ft over from light reactions will be used elsewhere by the cell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4610160" y="1289160"/>
            <a:ext cx="4533840" cy="29779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tosynthesis summar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s byproduc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d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3P (sugar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e06f00"/>
                </a:solidFill>
                <a:latin typeface="Arial"/>
              </a:rPr>
              <a:t>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generated </a:t>
            </a:r>
            <a:r>
              <a:rPr b="1" lang="en-US" sz="2800" spc="-1" strike="noStrike">
                <a:solidFill>
                  <a:srgbClr val="e06f00"/>
                </a:solidFill>
                <a:latin typeface="Arial"/>
              </a:rPr>
              <a:t>N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7162920" y="5105520"/>
            <a:ext cx="1487520" cy="1523880"/>
            <a:chOff x="7162920" y="5105520"/>
            <a:chExt cx="1487520" cy="1523880"/>
          </a:xfrm>
        </p:grpSpPr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7162920" y="5105520"/>
              <a:ext cx="1487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296480" y="5600880"/>
              <a:ext cx="1218960" cy="533160"/>
            </a:xfrm>
            <a:prstGeom prst="ellipse">
              <a:avLst/>
            </a:prstGeom>
            <a:solidFill>
              <a:srgbClr val="b7c1e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14120" y="560628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D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446800" y="5105520"/>
            <a:ext cx="1487520" cy="1523880"/>
            <a:chOff x="5446800" y="5105520"/>
            <a:chExt cx="1487520" cy="1523880"/>
          </a:xfrm>
        </p:grpSpPr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5446800" y="5105520"/>
              <a:ext cx="1487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580360" y="5600880"/>
              <a:ext cx="1218960" cy="533160"/>
            </a:xfrm>
            <a:prstGeom prst="ellipse">
              <a:avLst/>
            </a:prstGeom>
            <a:solidFill>
              <a:srgbClr val="b7c1e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25800" y="560628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D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photo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8920" y="2361960"/>
            <a:ext cx="82818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energy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’s the energy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will the C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 used for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re will th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at else is involved…not listed in this equation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838080" y="1295280"/>
            <a:ext cx="7772400" cy="914400"/>
            <a:chOff x="838080" y="1295280"/>
            <a:chExt cx="7772400" cy="914400"/>
          </a:xfrm>
        </p:grpSpPr>
        <p:sp>
          <p:nvSpPr>
            <p:cNvPr id="417" name=""/>
            <p:cNvSpPr/>
            <p:nvPr/>
          </p:nvSpPr>
          <p:spPr>
            <a:xfrm>
              <a:off x="838080" y="12952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156320" y="1479240"/>
              <a:ext cx="6743160" cy="727560"/>
              <a:chOff x="1156320" y="1479240"/>
              <a:chExt cx="6743160" cy="727560"/>
            </a:xfrm>
          </p:grpSpPr>
          <p:sp>
            <p:nvSpPr>
              <p:cNvPr id="419" name=""/>
              <p:cNvSpPr/>
              <p:nvPr/>
            </p:nvSpPr>
            <p:spPr>
              <a:xfrm>
                <a:off x="115632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48440" y="14882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39600" y="15055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170120" y="14882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57600" y="14792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911840" y="14850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161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0608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56720" y="15156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pporting a biosphe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n global scale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tosynthesis is the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ost important process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r the continuation of life on Ear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year photosynthesis synthesiz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160 billion tons of carbohydrat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eterotrophs are dependent on plants as food source for fuel &amp; raw materia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rcRect l="11702" t="0" r="9000" b="0"/>
          <a:stretch/>
        </p:blipFill>
        <p:spPr>
          <a:xfrm>
            <a:off x="6400800" y="380880"/>
            <a:ext cx="2666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 poetic perspective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the solid material of every </a:t>
            </a:r>
            <a:r>
              <a:rPr b="1" lang="en-US" sz="3000" spc="-1" strike="noStrike" u="sng">
                <a:solidFill>
                  <a:srgbClr val="008000"/>
                </a:solidFill>
                <a:uFillTx/>
                <a:latin typeface="Arial"/>
              </a:rPr>
              <a:t>plan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s built by sunlight out of thin ai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the solid material of every </a:t>
            </a:r>
            <a:r>
              <a:rPr b="1" lang="en-US" sz="3000" spc="-1" strike="noStrike" u="sng">
                <a:solidFill>
                  <a:srgbClr val="660000"/>
                </a:solidFill>
                <a:uFillTx/>
                <a:latin typeface="Arial"/>
              </a:rPr>
              <a:t>animal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was built from plant materia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4327560"/>
            <a:ext cx="5943600" cy="1921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n all the cats, dogs,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ats, people &amp; elephants…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re really strands of air woven together by sunlight!</a:t>
            </a:r>
            <a:endParaRPr b="0" lang="en-US" sz="3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0280" y="3749760"/>
            <a:ext cx="1828800" cy="12794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1960 h 1279440"/>
              <a:gd name="textAreaBottom" fmla="*/ 987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u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09480" y="3855960"/>
            <a:ext cx="1524240" cy="1067040"/>
            <a:chOff x="609480" y="3855960"/>
            <a:chExt cx="1524240" cy="1067040"/>
          </a:xfrm>
        </p:grpSpPr>
        <p:sp>
          <p:nvSpPr>
            <p:cNvPr id="436" name=""/>
            <p:cNvSpPr/>
            <p:nvPr/>
          </p:nvSpPr>
          <p:spPr>
            <a:xfrm flipH="1">
              <a:off x="609480" y="3855960"/>
              <a:ext cx="1524240" cy="10670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360" y="405504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air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y Questions?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9440" y="68544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e Calvin Cycle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9440" y="68580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116a"/>
                </a:solidFill>
                <a:latin typeface="Arial"/>
              </a:rPr>
              <a:t>Whoops! Wrong Calvi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7372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what it means to be a </a:t>
            </a:r>
            <a:r>
              <a:rPr b="1" lang="en-US" sz="3600" spc="-1" strike="noStrike">
                <a:solidFill>
                  <a:srgbClr val="0c8f0f"/>
                </a:solidFill>
                <a:latin typeface="Arial"/>
              </a:rPr>
              <a:t>plant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 produce all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rganic molecule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necessary for growt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rbohydrates, lipids, proteins, nucleic acid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to stor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hemical energy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(ATP) produced from light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stable form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be moved around pla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aved for a rainy d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utotroph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3276000"/>
            <a:ext cx="7772400" cy="838800"/>
            <a:chOff x="685800" y="3276000"/>
            <a:chExt cx="7772400" cy="838800"/>
          </a:xfrm>
        </p:grpSpPr>
        <p:sp>
          <p:nvSpPr>
            <p:cNvPr id="114" name=""/>
            <p:cNvSpPr/>
            <p:nvPr/>
          </p:nvSpPr>
          <p:spPr>
            <a:xfrm>
              <a:off x="685800" y="3276720"/>
              <a:ext cx="7772400" cy="7617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61760" y="3276000"/>
              <a:ext cx="7361640" cy="838800"/>
              <a:chOff x="761760" y="3276000"/>
              <a:chExt cx="7361640" cy="838800"/>
            </a:xfrm>
          </p:grpSpPr>
          <p:sp>
            <p:nvSpPr>
              <p:cNvPr id="116" name=""/>
              <p:cNvSpPr/>
              <p:nvPr/>
            </p:nvSpPr>
            <p:spPr>
              <a:xfrm>
                <a:off x="2047680" y="3276000"/>
                <a:ext cx="6075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water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energy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glucose </a:t>
                </a: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 oxyge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1760" y="3308040"/>
                <a:ext cx="13406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carbon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dioxide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685800" y="4038480"/>
            <a:ext cx="7772400" cy="914400"/>
            <a:chOff x="685800" y="4038480"/>
            <a:chExt cx="7772400" cy="914400"/>
          </a:xfrm>
        </p:grpSpPr>
        <p:sp>
          <p:nvSpPr>
            <p:cNvPr id="119" name=""/>
            <p:cNvSpPr/>
            <p:nvPr/>
          </p:nvSpPr>
          <p:spPr>
            <a:xfrm>
              <a:off x="685800" y="4038480"/>
              <a:ext cx="7772400" cy="91440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004040" y="4222440"/>
              <a:ext cx="6743160" cy="727560"/>
              <a:chOff x="1004040" y="4222440"/>
              <a:chExt cx="6743160" cy="727560"/>
            </a:xfrm>
          </p:grpSpPr>
          <p:sp>
            <p:nvSpPr>
              <p:cNvPr id="121" name=""/>
              <p:cNvSpPr/>
              <p:nvPr/>
            </p:nvSpPr>
            <p:spPr>
              <a:xfrm>
                <a:off x="1004040" y="42314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C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396160" y="4231440"/>
                <a:ext cx="9684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H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87320" y="4248720"/>
                <a:ext cx="125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H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12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r>
                  <a:rPr b="1" lang="en-US" sz="2400" spc="-1" strike="noStrike" baseline="-25000">
                    <a:solidFill>
                      <a:srgbClr val="cc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17840" y="4231440"/>
                <a:ext cx="7293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6O</a:t>
                </a:r>
                <a:r>
                  <a:rPr b="1" lang="en-US" sz="26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05320" y="4222440"/>
                <a:ext cx="126720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light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0000"/>
                    </a:solidFill>
                    <a:latin typeface="Arial"/>
                  </a:rPr>
                  <a:t>energy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59560" y="4228200"/>
                <a:ext cx="489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0880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80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04440" y="4258800"/>
                <a:ext cx="374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f116a"/>
                    </a:solidFill>
                    <a:latin typeface="Arial"/>
                  </a:rPr>
                  <a:t>+</a:t>
                </a:r>
                <a:endParaRPr b="0" lang="en-US" sz="2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Making energy &amp; organic molecules from light energy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8f0f"/>
                </a:solidFill>
                <a:latin typeface="Arial"/>
              </a:rPr>
              <a:t>photo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ght reaction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Convert solar energy to chemical energy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ADPH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What can we do now?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19000" y="2589840"/>
            <a:ext cx="206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energy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1440" y="3275640"/>
            <a:ext cx="38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reducing power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05200" y="4874760"/>
            <a:ext cx="482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c8f0f"/>
                </a:solidFill>
                <a:latin typeface="Symbol"/>
                <a:ea typeface="Symbol"/>
              </a:rPr>
              <a:t>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c8f0f"/>
                </a:solidFill>
                <a:latin typeface="Symbol"/>
                <a:ea typeface="Symbol"/>
              </a:rPr>
              <a:t>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c8f0f"/>
                </a:solidFill>
                <a:latin typeface="Arial"/>
              </a:rPr>
              <a:t>build stuff </a:t>
            </a:r>
            <a:r>
              <a:rPr b="1" i="1" lang="en-US" sz="4600" spc="-1" strike="noStrike">
                <a:solidFill>
                  <a:srgbClr val="0c8f0f"/>
                </a:solidFill>
                <a:latin typeface="Arial"/>
              </a:rPr>
              <a:t>!!</a:t>
            </a:r>
            <a:endParaRPr b="0" lang="en-US" sz="4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ow is that helpful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4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ant to make C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6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ynthesi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ow? From what?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hat raw materials are availabl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1120" y="3677400"/>
            <a:ext cx="10616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8280" y="5612400"/>
            <a:ext cx="187704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43376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0f116a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55616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53360 h 838080"/>
              <a:gd name="textAreaBottom" fmla="*/ 573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2" stAng="-5400000" swAng="-5400000"/>
                <a:lnTo>
                  <a:pt x="0" y="10824"/>
                </a:lnTo>
                <a:arcTo wR="21600" hR="7912" stAng="10800000" swAng="-3263100"/>
                <a:lnTo>
                  <a:pt x="16118" y="21341"/>
                </a:lnTo>
                <a:lnTo>
                  <a:pt x="21600" y="17280"/>
                </a:lnTo>
                <a:lnTo>
                  <a:pt x="16118" y="12701"/>
                </a:lnTo>
                <a:lnTo>
                  <a:pt x="16118" y="15565"/>
                </a:lnTo>
                <a:arcTo wR="21600" hR="7912" stAng="7536900" swAng="3027713"/>
                <a:lnTo>
                  <a:pt x="369" y="9368"/>
                </a:lnTo>
                <a:arcTo wR="21600" hR="7912" stAng="-10564613" swAng="5164613"/>
                <a:close/>
              </a:path>
              <a:path fill="darkenLess" w="21600" h="21600">
                <a:moveTo>
                  <a:pt x="21600" y="0"/>
                </a:moveTo>
                <a:arcTo wR="21600" hR="7912" stAng="-5400000" swAng="-5400000"/>
                <a:lnTo>
                  <a:pt x="0" y="7912"/>
                </a:lnTo>
                <a:arcTo wR="21600" hR="7912" stAng="10800000" swAng="-235387"/>
                <a:lnTo>
                  <a:pt x="369" y="9368"/>
                </a:lnTo>
                <a:arcTo wR="21600" hR="7912" stAng="-10564613" swAng="5164613"/>
                <a:close/>
              </a:path>
            </a:pathLst>
          </a:custGeom>
          <a:solidFill>
            <a:srgbClr val="0f11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65840" y="4371480"/>
            <a:ext cx="135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057280"/>
            <a:ext cx="111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NADP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4556160"/>
            <a:ext cx="2133360" cy="9144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reduc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6360" y="4738320"/>
            <a:ext cx="2553480" cy="4899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bon fixation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467480" y="5334120"/>
            <a:ext cx="1487520" cy="1523880"/>
            <a:chOff x="7467480" y="5334120"/>
            <a:chExt cx="1487520" cy="15238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7467480" y="5334120"/>
              <a:ext cx="1487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601040" y="5829480"/>
              <a:ext cx="1218960" cy="533160"/>
            </a:xfrm>
            <a:prstGeom prst="ellipse">
              <a:avLst/>
            </a:prstGeom>
            <a:solidFill>
              <a:srgbClr val="b7c1eb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18680" y="583488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ADP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660066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has very little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ully oxidiz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ontains a lot of chemical energy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duc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dergonic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duction of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ceeds in many small uphill step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ach catalyzed by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fic enzy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using energy stored in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Light reactions to Calvin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lvin cycl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hloroplast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trom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ed products of light reactions to drive synthesis reactio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P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0" b="3446"/>
          <a:stretch/>
        </p:blipFill>
        <p:spPr>
          <a:xfrm>
            <a:off x="3809880" y="3355920"/>
            <a:ext cx="53341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82520" y="6143760"/>
            <a:ext cx="16905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080" y="2635920"/>
            <a:ext cx="1206360" cy="8715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tarch,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sucrose,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cellulose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&amp; mo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24360" y="1752480"/>
            <a:ext cx="4190760" cy="4648320"/>
            <a:chOff x="3024360" y="1752480"/>
            <a:chExt cx="4190760" cy="4648320"/>
          </a:xfrm>
        </p:grpSpPr>
        <p:sp>
          <p:nvSpPr>
            <p:cNvPr id="158" name=""/>
            <p:cNvSpPr/>
            <p:nvPr/>
          </p:nvSpPr>
          <p:spPr>
            <a:xfrm>
              <a:off x="4959360" y="17524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24360" y="2209680"/>
              <a:ext cx="4190760" cy="4191120"/>
            </a:xfrm>
            <a:prstGeom prst="ellipse">
              <a:avLst/>
            </a:prstGeom>
            <a:noFill/>
            <a:ln w="127080">
              <a:solidFill>
                <a:srgbClr val="ff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778280" y="1219320"/>
            <a:ext cx="1330560" cy="609480"/>
            <a:chOff x="4778280" y="1219320"/>
            <a:chExt cx="1330560" cy="609480"/>
          </a:xfrm>
        </p:grpSpPr>
        <p:grpSp>
          <p:nvGrpSpPr>
            <p:cNvPr id="161" name=""/>
            <p:cNvGrpSpPr/>
            <p:nvPr/>
          </p:nvGrpSpPr>
          <p:grpSpPr>
            <a:xfrm>
              <a:off x="4778280" y="1219320"/>
              <a:ext cx="668520" cy="609480"/>
              <a:chOff x="4778280" y="1219320"/>
              <a:chExt cx="668520" cy="60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4807080" y="1219320"/>
                <a:ext cx="609480" cy="6094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8280" y="1233000"/>
                <a:ext cx="668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"/>
                  </a:rPr>
                  <a:t>1C</a:t>
                </a:r>
                <a:endParaRPr b="0" lang="en-US" sz="3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420520" y="1225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0120" y="684720"/>
            <a:ext cx="2672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alvin cycle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169" name=""/>
            <p:cNvSpPr/>
            <p:nvPr/>
          </p:nvSpPr>
          <p:spPr>
            <a:xfrm>
              <a:off x="3992400" y="2057400"/>
              <a:ext cx="60984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112920" y="2176920"/>
            <a:ext cx="94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B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804000" y="4336200"/>
            <a:ext cx="668520" cy="610200"/>
            <a:chOff x="6804000" y="4336200"/>
            <a:chExt cx="668520" cy="610200"/>
          </a:xfrm>
        </p:grpSpPr>
        <p:sp>
          <p:nvSpPr>
            <p:cNvPr id="173" name=""/>
            <p:cNvSpPr/>
            <p:nvPr/>
          </p:nvSpPr>
          <p:spPr>
            <a:xfrm>
              <a:off x="6808680" y="4336920"/>
              <a:ext cx="60984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04000" y="43362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800600" y="2286000"/>
            <a:ext cx="114300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7520" y="2208960"/>
            <a:ext cx="12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Rubisc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25040" y="1577160"/>
            <a:ext cx="2113200" cy="36828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1. Carbon fix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7920" y="5582520"/>
            <a:ext cx="1575000" cy="36828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2. Reduc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080" y="1747080"/>
            <a:ext cx="1895400" cy="642600"/>
          </a:xfrm>
          <a:prstGeom prst="rect">
            <a:avLst/>
          </a:prstGeom>
          <a:solidFill>
            <a:srgbClr val="b7c1eb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3. Regeneration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of RuB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9120" y="246132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bulose bisphospha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32400" y="2710080"/>
            <a:ext cx="1587240" cy="823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ibulos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isphosphat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rboxylas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42440" y="3587400"/>
            <a:ext cx="677880" cy="66204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801360" y="3527280"/>
            <a:ext cx="344880" cy="49500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146240" y="3492360"/>
            <a:ext cx="92160" cy="463680"/>
          </a:xfrm>
          <a:prstGeom prst="line">
            <a:avLst/>
          </a:prstGeom>
          <a:ln w="28440">
            <a:solidFill>
              <a:srgbClr val="66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27320" y="6003000"/>
            <a:ext cx="2206080" cy="856080"/>
            <a:chOff x="2227320" y="6003000"/>
            <a:chExt cx="2206080" cy="856080"/>
          </a:xfrm>
        </p:grpSpPr>
        <p:sp>
          <p:nvSpPr>
            <p:cNvPr id="186" name=""/>
            <p:cNvSpPr/>
            <p:nvPr/>
          </p:nvSpPr>
          <p:spPr>
            <a:xfrm flipH="1">
              <a:off x="3595320" y="6202440"/>
              <a:ext cx="838080" cy="53352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27480" y="6429960"/>
              <a:ext cx="1203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N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27320" y="6003000"/>
              <a:ext cx="1404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NADPH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586560" y="5515560"/>
            <a:ext cx="1826640" cy="886320"/>
            <a:chOff x="6586560" y="5515560"/>
            <a:chExt cx="1826640" cy="886320"/>
          </a:xfrm>
        </p:grpSpPr>
        <p:sp>
          <p:nvSpPr>
            <p:cNvPr id="190" name=""/>
            <p:cNvSpPr/>
            <p:nvPr/>
          </p:nvSpPr>
          <p:spPr>
            <a:xfrm>
              <a:off x="6586560" y="5745240"/>
              <a:ext cx="838080" cy="53352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10960" y="597276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6 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10960" y="551556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6 AT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568520" y="2788200"/>
            <a:ext cx="1766520" cy="886320"/>
            <a:chOff x="1568520" y="2788200"/>
            <a:chExt cx="1766520" cy="886320"/>
          </a:xfrm>
        </p:grpSpPr>
        <p:sp>
          <p:nvSpPr>
            <p:cNvPr id="194" name=""/>
            <p:cNvSpPr/>
            <p:nvPr/>
          </p:nvSpPr>
          <p:spPr>
            <a:xfrm flipH="1">
              <a:off x="2496960" y="301788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8520" y="3245400"/>
              <a:ext cx="100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3 AD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97320" y="2788200"/>
              <a:ext cx="97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</a:rPr>
                <a:t>3 ATP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042920" y="3854160"/>
            <a:ext cx="1392480" cy="8974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used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to make</a:t>
            </a:r>
            <a:br>
              <a:rPr sz="2200"/>
            </a:b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lucose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33880" y="6051600"/>
            <a:ext cx="668520" cy="609480"/>
            <a:chOff x="5033880" y="6051600"/>
            <a:chExt cx="668520" cy="609480"/>
          </a:xfrm>
        </p:grpSpPr>
        <p:sp>
          <p:nvSpPr>
            <p:cNvPr id="199" name=""/>
            <p:cNvSpPr/>
            <p:nvPr/>
          </p:nvSpPr>
          <p:spPr>
            <a:xfrm>
              <a:off x="5062680" y="60516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33880" y="60652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787480" y="4821120"/>
            <a:ext cx="668520" cy="609480"/>
            <a:chOff x="2787480" y="4821120"/>
            <a:chExt cx="668520" cy="609480"/>
          </a:xfrm>
        </p:grpSpPr>
        <p:sp>
          <p:nvSpPr>
            <p:cNvPr id="202" name=""/>
            <p:cNvSpPr/>
            <p:nvPr/>
          </p:nvSpPr>
          <p:spPr>
            <a:xfrm>
              <a:off x="2816280" y="48211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87480" y="48348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881000" y="3025800"/>
            <a:ext cx="2233800" cy="1992240"/>
            <a:chOff x="1881000" y="3025800"/>
            <a:chExt cx="2233800" cy="1992240"/>
          </a:xfrm>
        </p:grpSpPr>
        <p:sp>
          <p:nvSpPr>
            <p:cNvPr id="205" name=""/>
            <p:cNvSpPr/>
            <p:nvPr/>
          </p:nvSpPr>
          <p:spPr>
            <a:xfrm>
              <a:off x="3124080" y="4427640"/>
              <a:ext cx="990720" cy="53316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 rot="19096800">
              <a:off x="2415600" y="3058560"/>
              <a:ext cx="833400" cy="1926000"/>
            </a:xfrm>
            <a:custGeom>
              <a:avLst/>
              <a:gdLst>
                <a:gd name="textAreaLeft" fmla="*/ -360 w 833400"/>
                <a:gd name="textAreaRight" fmla="*/ 833400 w 833400"/>
                <a:gd name="textAreaTop" fmla="*/ 360 h 1926000"/>
                <a:gd name="textAreaBottom" fmla="*/ 1926720 h 192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60" y="11165"/>
                  </a:moveTo>
                  <a:arcTo wR="-8148" hR="-8148" stAng="10645953" swAng="-6190919"/>
                  <a:lnTo>
                    <a:pt x="7869" y="405"/>
                  </a:lnTo>
                  <a:arcTo wR="10800" hR="10800" stAng="-6344965" swAng="6190919"/>
                  <a:lnTo>
                    <a:pt x="24286" y="10195"/>
                  </a:lnTo>
                  <a:lnTo>
                    <a:pt x="20445" y="14398"/>
                  </a:lnTo>
                  <a:lnTo>
                    <a:pt x="16243" y="10556"/>
                  </a:ln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250080" y="44787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68440" y="416988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yceraldehyde-3-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762280" y="1317600"/>
            <a:ext cx="1231920" cy="247680"/>
            <a:chOff x="2762280" y="1317600"/>
            <a:chExt cx="1231920" cy="247680"/>
          </a:xfrm>
        </p:grpSpPr>
        <p:sp>
          <p:nvSpPr>
            <p:cNvPr id="210" name=""/>
            <p:cNvSpPr/>
            <p:nvPr/>
          </p:nvSpPr>
          <p:spPr>
            <a:xfrm>
              <a:off x="2762280" y="13176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08520" y="1317600"/>
              <a:ext cx="24732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54400" y="13176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0640" y="13176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6520" y="13176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762280" y="1646280"/>
            <a:ext cx="1231920" cy="247680"/>
            <a:chOff x="2762280" y="1646280"/>
            <a:chExt cx="1231920" cy="247680"/>
          </a:xfrm>
        </p:grpSpPr>
        <p:sp>
          <p:nvSpPr>
            <p:cNvPr id="216" name=""/>
            <p:cNvSpPr/>
            <p:nvPr/>
          </p:nvSpPr>
          <p:spPr>
            <a:xfrm>
              <a:off x="2762280" y="16462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08520" y="1646280"/>
              <a:ext cx="24732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54400" y="16462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0640" y="16462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46520" y="16462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762280" y="1976400"/>
            <a:ext cx="1231920" cy="247680"/>
            <a:chOff x="2762280" y="1976400"/>
            <a:chExt cx="1231920" cy="247680"/>
          </a:xfrm>
        </p:grpSpPr>
        <p:sp>
          <p:nvSpPr>
            <p:cNvPr id="222" name=""/>
            <p:cNvSpPr/>
            <p:nvPr/>
          </p:nvSpPr>
          <p:spPr>
            <a:xfrm>
              <a:off x="2762280" y="19764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08520" y="1976400"/>
              <a:ext cx="24732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54400" y="19764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0640" y="19764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46520" y="19764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06840" y="2555280"/>
            <a:ext cx="668520" cy="610200"/>
            <a:chOff x="6306840" y="2555280"/>
            <a:chExt cx="668520" cy="610200"/>
          </a:xfrm>
        </p:grpSpPr>
        <p:sp>
          <p:nvSpPr>
            <p:cNvPr id="228" name=""/>
            <p:cNvSpPr/>
            <p:nvPr/>
          </p:nvSpPr>
          <p:spPr>
            <a:xfrm>
              <a:off x="6311880" y="25560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6840" y="25552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207200" y="2063880"/>
            <a:ext cx="1470240" cy="247680"/>
            <a:chOff x="7207200" y="2063880"/>
            <a:chExt cx="1470240" cy="247680"/>
          </a:xfrm>
        </p:grpSpPr>
        <p:grpSp>
          <p:nvGrpSpPr>
            <p:cNvPr id="231" name=""/>
            <p:cNvGrpSpPr/>
            <p:nvPr/>
          </p:nvGrpSpPr>
          <p:grpSpPr>
            <a:xfrm>
              <a:off x="7207200" y="2063880"/>
              <a:ext cx="1231920" cy="247680"/>
              <a:chOff x="7207200" y="2063880"/>
              <a:chExt cx="1231920" cy="247680"/>
            </a:xfrm>
          </p:grpSpPr>
          <p:sp>
            <p:nvSpPr>
              <p:cNvPr id="232" name=""/>
              <p:cNvSpPr/>
              <p:nvPr/>
            </p:nvSpPr>
            <p:spPr>
              <a:xfrm>
                <a:off x="7207200" y="20638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453440" y="2063880"/>
                <a:ext cx="24732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699320" y="20638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45560" y="20638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91440" y="20638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8429760" y="20638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207200" y="2398680"/>
            <a:ext cx="1470240" cy="247680"/>
            <a:chOff x="7207200" y="2398680"/>
            <a:chExt cx="1470240" cy="247680"/>
          </a:xfrm>
        </p:grpSpPr>
        <p:grpSp>
          <p:nvGrpSpPr>
            <p:cNvPr id="239" name=""/>
            <p:cNvGrpSpPr/>
            <p:nvPr/>
          </p:nvGrpSpPr>
          <p:grpSpPr>
            <a:xfrm>
              <a:off x="7207200" y="2398680"/>
              <a:ext cx="1231920" cy="247680"/>
              <a:chOff x="7207200" y="2398680"/>
              <a:chExt cx="1231920" cy="247680"/>
            </a:xfrm>
          </p:grpSpPr>
          <p:sp>
            <p:nvSpPr>
              <p:cNvPr id="240" name=""/>
              <p:cNvSpPr/>
              <p:nvPr/>
            </p:nvSpPr>
            <p:spPr>
              <a:xfrm>
                <a:off x="7207200" y="2398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53440" y="2398680"/>
                <a:ext cx="24732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99320" y="2398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45560" y="2398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191440" y="2398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8429760" y="23986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207200" y="2722680"/>
            <a:ext cx="1470240" cy="247680"/>
            <a:chOff x="7207200" y="2722680"/>
            <a:chExt cx="1470240" cy="247680"/>
          </a:xfrm>
        </p:grpSpPr>
        <p:grpSp>
          <p:nvGrpSpPr>
            <p:cNvPr id="247" name=""/>
            <p:cNvGrpSpPr/>
            <p:nvPr/>
          </p:nvGrpSpPr>
          <p:grpSpPr>
            <a:xfrm>
              <a:off x="7207200" y="2722680"/>
              <a:ext cx="1231920" cy="247680"/>
              <a:chOff x="7207200" y="2722680"/>
              <a:chExt cx="1231920" cy="247680"/>
            </a:xfrm>
          </p:grpSpPr>
          <p:sp>
            <p:nvSpPr>
              <p:cNvPr id="248" name=""/>
              <p:cNvSpPr/>
              <p:nvPr/>
            </p:nvSpPr>
            <p:spPr>
              <a:xfrm>
                <a:off x="7207200" y="2722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53440" y="2722680"/>
                <a:ext cx="24732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99320" y="2722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945560" y="2722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191440" y="2722680"/>
                <a:ext cx="247680" cy="247680"/>
              </a:xfrm>
              <a:prstGeom prst="ellipse">
                <a:avLst/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8429760" y="27226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36760" y="6326280"/>
            <a:ext cx="739800" cy="247680"/>
            <a:chOff x="1436760" y="6326280"/>
            <a:chExt cx="739800" cy="247680"/>
          </a:xfrm>
        </p:grpSpPr>
        <p:sp>
          <p:nvSpPr>
            <p:cNvPr id="255" name=""/>
            <p:cNvSpPr/>
            <p:nvPr/>
          </p:nvSpPr>
          <p:spPr>
            <a:xfrm>
              <a:off x="1436760" y="632628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83000" y="632628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28880" y="632628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36760" y="4857840"/>
            <a:ext cx="731880" cy="247680"/>
            <a:chOff x="1436760" y="4857840"/>
            <a:chExt cx="731880" cy="247680"/>
          </a:xfrm>
        </p:grpSpPr>
        <p:sp>
          <p:nvSpPr>
            <p:cNvPr id="259" name=""/>
            <p:cNvSpPr/>
            <p:nvPr/>
          </p:nvSpPr>
          <p:spPr>
            <a:xfrm>
              <a:off x="1436760" y="485784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82640" y="485784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20960" y="485784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436760" y="5151600"/>
            <a:ext cx="739800" cy="247320"/>
            <a:chOff x="1436760" y="5151600"/>
            <a:chExt cx="739800" cy="247320"/>
          </a:xfrm>
        </p:grpSpPr>
        <p:sp>
          <p:nvSpPr>
            <p:cNvPr id="263" name=""/>
            <p:cNvSpPr/>
            <p:nvPr/>
          </p:nvSpPr>
          <p:spPr>
            <a:xfrm>
              <a:off x="1436760" y="515160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83000" y="515160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28880" y="515160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36760" y="5445000"/>
            <a:ext cx="731880" cy="247680"/>
            <a:chOff x="1436760" y="5445000"/>
            <a:chExt cx="731880" cy="247680"/>
          </a:xfrm>
        </p:grpSpPr>
        <p:sp>
          <p:nvSpPr>
            <p:cNvPr id="267" name=""/>
            <p:cNvSpPr/>
            <p:nvPr/>
          </p:nvSpPr>
          <p:spPr>
            <a:xfrm>
              <a:off x="1436760" y="544500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82640" y="544500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20960" y="544500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36760" y="5738760"/>
            <a:ext cx="739800" cy="247680"/>
            <a:chOff x="1436760" y="5738760"/>
            <a:chExt cx="739800" cy="247680"/>
          </a:xfrm>
        </p:grpSpPr>
        <p:sp>
          <p:nvSpPr>
            <p:cNvPr id="271" name=""/>
            <p:cNvSpPr/>
            <p:nvPr/>
          </p:nvSpPr>
          <p:spPr>
            <a:xfrm>
              <a:off x="1436760" y="573876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3000" y="573876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8880" y="573876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436760" y="6032520"/>
            <a:ext cx="731880" cy="247680"/>
            <a:chOff x="1436760" y="6032520"/>
            <a:chExt cx="731880" cy="247680"/>
          </a:xfrm>
        </p:grpSpPr>
        <p:sp>
          <p:nvSpPr>
            <p:cNvPr id="275" name=""/>
            <p:cNvSpPr/>
            <p:nvPr/>
          </p:nvSpPr>
          <p:spPr>
            <a:xfrm>
              <a:off x="1436760" y="603252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82640" y="603252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20960" y="6032520"/>
              <a:ext cx="247680" cy="24768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095160" y="4428000"/>
            <a:ext cx="78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G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73400" y="474156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oglycera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86800" y="5151600"/>
            <a:ext cx="739800" cy="247320"/>
            <a:chOff x="7786800" y="5151600"/>
            <a:chExt cx="739800" cy="247320"/>
          </a:xfrm>
        </p:grpSpPr>
        <p:sp>
          <p:nvSpPr>
            <p:cNvPr id="281" name=""/>
            <p:cNvSpPr/>
            <p:nvPr/>
          </p:nvSpPr>
          <p:spPr>
            <a:xfrm>
              <a:off x="7786800" y="5151600"/>
              <a:ext cx="247680" cy="24732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33040" y="5151600"/>
              <a:ext cx="247680" cy="24732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78920" y="5151600"/>
              <a:ext cx="247680" cy="24732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786800" y="3691080"/>
            <a:ext cx="731880" cy="247680"/>
            <a:chOff x="7786800" y="3691080"/>
            <a:chExt cx="731880" cy="247680"/>
          </a:xfrm>
        </p:grpSpPr>
        <p:sp>
          <p:nvSpPr>
            <p:cNvPr id="285" name=""/>
            <p:cNvSpPr/>
            <p:nvPr/>
          </p:nvSpPr>
          <p:spPr>
            <a:xfrm>
              <a:off x="7786800" y="36910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32680" y="36910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1000" y="36910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786800" y="3984480"/>
            <a:ext cx="739800" cy="247680"/>
            <a:chOff x="7786800" y="3984480"/>
            <a:chExt cx="739800" cy="247680"/>
          </a:xfrm>
        </p:grpSpPr>
        <p:sp>
          <p:nvSpPr>
            <p:cNvPr id="289" name=""/>
            <p:cNvSpPr/>
            <p:nvPr/>
          </p:nvSpPr>
          <p:spPr>
            <a:xfrm>
              <a:off x="7786800" y="39844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33040" y="39844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78920" y="398448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786800" y="4278240"/>
            <a:ext cx="731880" cy="247680"/>
            <a:chOff x="7786800" y="4278240"/>
            <a:chExt cx="731880" cy="247680"/>
          </a:xfrm>
        </p:grpSpPr>
        <p:sp>
          <p:nvSpPr>
            <p:cNvPr id="293" name=""/>
            <p:cNvSpPr/>
            <p:nvPr/>
          </p:nvSpPr>
          <p:spPr>
            <a:xfrm>
              <a:off x="7786800" y="427824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32680" y="427824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71000" y="427824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786800" y="4572000"/>
            <a:ext cx="739800" cy="247680"/>
            <a:chOff x="7786800" y="4572000"/>
            <a:chExt cx="739800" cy="247680"/>
          </a:xfrm>
        </p:grpSpPr>
        <p:sp>
          <p:nvSpPr>
            <p:cNvPr id="297" name=""/>
            <p:cNvSpPr/>
            <p:nvPr/>
          </p:nvSpPr>
          <p:spPr>
            <a:xfrm>
              <a:off x="7786800" y="45720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33040" y="45720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78920" y="457200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786800" y="4865760"/>
            <a:ext cx="731880" cy="247680"/>
            <a:chOff x="7786800" y="4865760"/>
            <a:chExt cx="731880" cy="247680"/>
          </a:xfrm>
        </p:grpSpPr>
        <p:sp>
          <p:nvSpPr>
            <p:cNvPr id="301" name=""/>
            <p:cNvSpPr/>
            <p:nvPr/>
          </p:nvSpPr>
          <p:spPr>
            <a:xfrm>
              <a:off x="7786800" y="486576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32680" y="486576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71000" y="486576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746520" y="4818240"/>
            <a:ext cx="731880" cy="247320"/>
            <a:chOff x="3746520" y="4818240"/>
            <a:chExt cx="731880" cy="247320"/>
          </a:xfrm>
        </p:grpSpPr>
        <p:sp>
          <p:nvSpPr>
            <p:cNvPr id="305" name=""/>
            <p:cNvSpPr/>
            <p:nvPr/>
          </p:nvSpPr>
          <p:spPr>
            <a:xfrm>
              <a:off x="3746520" y="481824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92400" y="481824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30720" y="481824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016600" y="500040"/>
            <a:ext cx="247680" cy="2476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81640" y="722160"/>
            <a:ext cx="247680" cy="2476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62520" y="555480"/>
            <a:ext cx="247680" cy="24768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06280" y="5157360"/>
            <a:ext cx="978120" cy="337320"/>
            <a:chOff x="206280" y="5157360"/>
            <a:chExt cx="978120" cy="337320"/>
          </a:xfrm>
        </p:grpSpPr>
        <p:sp>
          <p:nvSpPr>
            <p:cNvPr id="312" name=""/>
            <p:cNvSpPr/>
            <p:nvPr/>
          </p:nvSpPr>
          <p:spPr>
            <a:xfrm>
              <a:off x="206280" y="517536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1680" y="5175360"/>
              <a:ext cx="24732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36720" y="5175360"/>
              <a:ext cx="247680" cy="24768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3600" y="51573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9000" y="51573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06280" y="5892840"/>
            <a:ext cx="978120" cy="834480"/>
            <a:chOff x="206280" y="5892840"/>
            <a:chExt cx="978120" cy="834480"/>
          </a:xfrm>
        </p:grpSpPr>
        <p:grpSp>
          <p:nvGrpSpPr>
            <p:cNvPr id="318" name=""/>
            <p:cNvGrpSpPr/>
            <p:nvPr/>
          </p:nvGrpSpPr>
          <p:grpSpPr>
            <a:xfrm>
              <a:off x="928800" y="5892840"/>
              <a:ext cx="247680" cy="397800"/>
              <a:chOff x="928800" y="5892840"/>
              <a:chExt cx="247680" cy="397800"/>
            </a:xfrm>
          </p:grpSpPr>
          <p:sp>
            <p:nvSpPr>
              <p:cNvPr id="319" name=""/>
              <p:cNvSpPr/>
              <p:nvPr/>
            </p:nvSpPr>
            <p:spPr>
              <a:xfrm>
                <a:off x="928800" y="604332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28800" y="589284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71680" y="5892840"/>
              <a:ext cx="247320" cy="397800"/>
              <a:chOff x="571680" y="5892840"/>
              <a:chExt cx="247320" cy="397800"/>
            </a:xfrm>
          </p:grpSpPr>
          <p:sp>
            <p:nvSpPr>
              <p:cNvPr id="322" name=""/>
              <p:cNvSpPr/>
              <p:nvPr/>
            </p:nvSpPr>
            <p:spPr>
              <a:xfrm>
                <a:off x="571680" y="6043320"/>
                <a:ext cx="24732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1680" y="5892840"/>
                <a:ext cx="24732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928800" y="6329520"/>
              <a:ext cx="247680" cy="397800"/>
              <a:chOff x="928800" y="6329520"/>
              <a:chExt cx="247680" cy="397800"/>
            </a:xfrm>
          </p:grpSpPr>
          <p:sp>
            <p:nvSpPr>
              <p:cNvPr id="325" name=""/>
              <p:cNvSpPr/>
              <p:nvPr/>
            </p:nvSpPr>
            <p:spPr>
              <a:xfrm flipH="1" flipV="1">
                <a:off x="928800" y="632916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928800" y="647964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71320" y="6329520"/>
              <a:ext cx="247320" cy="397800"/>
              <a:chOff x="571320" y="6329520"/>
              <a:chExt cx="247320" cy="397800"/>
            </a:xfrm>
          </p:grpSpPr>
          <p:sp>
            <p:nvSpPr>
              <p:cNvPr id="328" name=""/>
              <p:cNvSpPr/>
              <p:nvPr/>
            </p:nvSpPr>
            <p:spPr>
              <a:xfrm flipH="1" flipV="1">
                <a:off x="570960" y="6329160"/>
                <a:ext cx="24732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570960" y="6479640"/>
                <a:ext cx="24732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06280" y="6329520"/>
              <a:ext cx="247680" cy="397800"/>
              <a:chOff x="206280" y="6329520"/>
              <a:chExt cx="247680" cy="397800"/>
            </a:xfrm>
          </p:grpSpPr>
          <p:sp>
            <p:nvSpPr>
              <p:cNvPr id="331" name=""/>
              <p:cNvSpPr/>
              <p:nvPr/>
            </p:nvSpPr>
            <p:spPr>
              <a:xfrm flipH="1" flipV="1">
                <a:off x="206280" y="632916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206280" y="647964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06280" y="5892840"/>
              <a:ext cx="247680" cy="397800"/>
              <a:chOff x="206280" y="5892840"/>
              <a:chExt cx="247680" cy="397800"/>
            </a:xfrm>
          </p:grpSpPr>
          <p:sp>
            <p:nvSpPr>
              <p:cNvPr id="334" name=""/>
              <p:cNvSpPr/>
              <p:nvPr/>
            </p:nvSpPr>
            <p:spPr>
              <a:xfrm>
                <a:off x="206280" y="604332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06280" y="5892840"/>
                <a:ext cx="247680" cy="247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06280" y="618624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1680" y="6186240"/>
              <a:ext cx="24732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36720" y="6186240"/>
              <a:ext cx="247680" cy="247320"/>
            </a:xfrm>
            <a:prstGeom prst="ellipse">
              <a:avLst/>
            </a:prstGeom>
            <a:solidFill>
              <a:srgbClr val="ffcc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840" y="6141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1880" y="6141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f116a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 rot="5400000">
            <a:off x="516960" y="5460840"/>
            <a:ext cx="357120" cy="452520"/>
          </a:xfrm>
          <a:custGeom>
            <a:avLst/>
            <a:gdLst>
              <a:gd name="textAreaLeft" fmla="*/ 55800 w 357120"/>
              <a:gd name="textAreaRight" fmla="*/ 312480 w 357120"/>
              <a:gd name="textAreaTop" fmla="*/ 113040 h 452520"/>
              <a:gd name="textAreaBottom" fmla="*/ 339480 h 452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3:32:31Z</dcterms:created>
  <dc:creator>Kim Foglia</dc:creator>
  <dc:description>All Rights Reserved. Copyright 2003. WD Interactive.</dc:description>
  <cp:keywords>Education Biology Zone Kim Foglia</cp:keywords>
  <dc:language>en-US</dc:language>
  <cp:lastModifiedBy>Kimberly Area School District</cp:lastModifiedBy>
  <cp:lastPrinted>2007-03-09T07:23:56Z</cp:lastPrinted>
  <dcterms:modified xsi:type="dcterms:W3CDTF">2008-02-27T20:58:53Z</dcterms:modified>
  <cp:revision>59</cp:revision>
  <dc:subject>AP &amp; Regents Biology</dc:subject>
  <dc:title>Whoops! Wrong Calvin…</dc:title>
</cp:coreProperties>
</file>